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11C4-16AE-4BC4-8A21-EAF0E47CF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1C00-05F5-4811-ADB5-E29CC2318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U – American Geophysical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Search – brief explanation of OSDDs, keyword searching, pag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– xml results, show example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IP – base OSDD allows programmatic construction of search. Search results reference further OSD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up atom.xml and point out link elements illustrating ESIP stand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456-EED7-435D-8E6B-C64CD3D6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E73-641E-4316-940F-CDE1F594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ED3-1FBC-4914-808F-D75C32DB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0E3-9285-4E1C-A568-F0C3FFB9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A0E3-B65E-4540-9EE6-DA47955E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6472-5CB6-4D0E-8B7A-2E292341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B645-F9B8-4CB2-9522-8F5723A7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C3F9-5855-4424-8562-E861C5F5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F849-49D0-4992-9954-AE594186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C7D3-BEA3-40D9-B0FB-0D6EC2B9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F24D-28FF-4296-AF64-73B2907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F49-298B-412F-B68A-51CC3B15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3869-2662-498D-86A5-CD036B3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EDE9-3D54-4CB1-94FE-6DC97B8F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5865-02C6-4F28-90C5-696B7AC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6640-EB9A-4F0E-B327-2F8EBAB7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040E-92C4-48E1-89D0-EB07832C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BECF-7163-406E-94B0-D4A90B4D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8698-3776-4A81-9CF1-CA847C2A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307D-E126-418D-A90F-2009C659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0C37-716A-413F-A99D-94787BD3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C935-FDC4-453D-84A6-6FBE2B99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987-B039-4C88-8099-CD565370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B5FF-FEB9-4967-93C3-A5AA376D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E70D-3261-4C75-A6DC-8EE892A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8F57-30C1-48A7-A719-30D9638B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81C2-AF98-4547-97B3-B4E70CC9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EE34-9622-4F2E-A5B5-B948175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5414-9A34-4159-816F-DD86E649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691E-0E79-4214-870F-9B8296C1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5FD3-115D-418C-99D7-0C3604ED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627B-E1F5-47BD-86D1-B6E3695D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03BD-33E1-4C32-A365-9D681C9D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214-084C-4165-A798-05C8E7C5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7CC3C-37DE-4D66-BABF-C6CE7DE5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F9EE-9EB3-479F-8C9A-06D6DF38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F8495-18C6-41B8-ADE3-48667967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DC5D-7847-4BCF-85CE-6B1D99A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FD5DF-6721-4CF8-A9FB-A9DA177C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991B-E9CF-47CF-B90F-1CBE05F0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E62E-5C8F-4D3D-9843-FC24B11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30833-1B25-44DB-A348-37471701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6A2FC-061B-455B-9DE7-BF8339C1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65A7-6793-4379-9C24-EBD2EAAE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F91-35D4-4F6F-ACE3-1ED668CA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653C-3B52-4B93-8EE9-D9F38E21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3B9C-430D-4789-B7A6-047EFD3A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49BA-20B8-4EC0-A462-F3E6EA1B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910E1-2D77-40A2-A27F-E33CAF9F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B12DB-C7C9-4A94-ACFF-FDCFD82C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F3E20-4819-47A4-8C2D-EEDF207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18EB-34EB-4822-9D71-58C147E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8E942-8CFE-442D-AD2D-949B826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C6AF5-E079-42BE-97BA-16AA3BEE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BC16-50B3-47E2-BE24-BF0C5F27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DCE-C577-4971-B739-E7EEBF14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E9E0F-6293-4C11-8ECF-2500B346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96D10-EB13-43EE-B71D-8C054D66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EA6C-B086-4432-BDDB-2EE66AF8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0D71A-344B-46D4-B6EB-BC55E716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DD24D-FC3D-4D53-8D87-55B1A6D7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DC3F-E1B1-4BF1-9241-6A74917C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F53B-7C67-425D-8FC9-D2507E2C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94144-7C0B-48CF-8A09-2060D754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CA1B4-140D-43F7-9360-77383004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F0950-9C65-4AA2-BACC-7A001396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7CB-CDA3-48CB-8601-53D57D9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DFCAA-8DC4-4B97-9900-A895D272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47D34-8FA8-441A-9A57-50E278C4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B488B-D9F3-4BC5-BEA9-617D3383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44F4C-4C5C-4F72-A329-223D90CD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B1AA-A5D9-4072-8A95-D9E1DE07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53924-D820-41D7-926C-11FC1903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D0D8-7A9C-4AC3-8E23-F69DCCD2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748E3-D7DB-4886-A0B2-E54BC95A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BCBD2-C295-4903-9140-99754480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8866F-3DCF-43D5-9375-8E54EDFC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1F7-1F3C-4097-BC6A-472961C6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65F66-DEAB-4C9D-8AA9-F07E46B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D0E7-3AFB-4805-851D-A372479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79DA9-D132-4EFC-8134-AB917ED7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35737-0701-412E-A5F8-17A39AB4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CFC4D-BA00-44F5-81FB-3A154420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937-5CF9-4C76-A81F-5E3B726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0479-5F00-4DAE-97DD-FADBAB84592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89AE-6E9C-437D-963A-3DA85594629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C633-C8E8-4C78-8FE7-C7C54D91867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80D2-B08D-49FA-A6EC-72DA5096F24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4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2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16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19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0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23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25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6772-C216-4DB9-B194-ECC8A143045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39F6-9F5D-4D21-B667-E186A27AF10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A4E5-CABB-404D-8F41-C61FE29FC2D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0908-80D1-4793-97E5-403EA44CEFB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FBCF-4BDB-478A-8C5E-AC5F9B66815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58B-5ADE-4842-A165-7D795ABF34B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8704-6047-407F-8626-4E27A4137AB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AE89-28F8-47EC-99D0-8D06C736921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14"/>
            <p:cNvSpPr/>
            <p:nvPr/>
          </p:nvSpPr>
          <p:spPr>
            <a:xfrm>
              <a:off x="8580240" y="12175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15"/>
            <p:cNvSpPr/>
            <p:nvPr/>
          </p:nvSpPr>
          <p:spPr>
            <a:xfrm>
              <a:off x="8516880" y="12826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16"/>
            <p:cNvSpPr/>
            <p:nvPr/>
          </p:nvSpPr>
          <p:spPr>
            <a:xfrm flipV="1">
              <a:off x="8580240" y="12823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13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10"/>
            <p:cNvSpPr/>
            <p:nvPr/>
          </p:nvSpPr>
          <p:spPr>
            <a:xfrm>
              <a:off x="8733240" y="1370160"/>
              <a:ext cx="65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11"/>
            <p:cNvSpPr/>
            <p:nvPr/>
          </p:nvSpPr>
          <p:spPr>
            <a:xfrm>
              <a:off x="8669160" y="1435320"/>
              <a:ext cx="92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12"/>
            <p:cNvSpPr/>
            <p:nvPr/>
          </p:nvSpPr>
          <p:spPr>
            <a:xfrm flipV="1">
              <a:off x="8733240" y="1434960"/>
              <a:ext cx="65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17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18"/>
            <p:cNvSpPr/>
            <p:nvPr/>
          </p:nvSpPr>
          <p:spPr>
            <a:xfrm>
              <a:off x="8385120" y="14731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19"/>
            <p:cNvSpPr/>
            <p:nvPr/>
          </p:nvSpPr>
          <p:spPr>
            <a:xfrm>
              <a:off x="8321760" y="15382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20"/>
            <p:cNvSpPr/>
            <p:nvPr/>
          </p:nvSpPr>
          <p:spPr>
            <a:xfrm flipV="1">
              <a:off x="8385120" y="15379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07F2-6905-4110-899B-0C0955217E5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5F13-CA16-4A25-880E-A432B28B677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pi.echo.nasa.gov/echo-esip/search/dataset.atom?keywords=MODI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porting GES-DISC feature requests and beyon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919080" y="4343400"/>
            <a:ext cx="748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CHO-ESIP query interfa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8" descr="echo"/>
          <p:cNvPicPr/>
          <p:nvPr/>
        </p:nvPicPr>
        <p:blipFill>
          <a:blip r:embed="rId1"/>
          <a:stretch/>
        </p:blipFill>
        <p:spPr>
          <a:xfrm>
            <a:off x="4952880" y="152280"/>
            <a:ext cx="4089600" cy="127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nasaHeaderLogo"/>
          <p:cNvPicPr/>
          <p:nvPr/>
        </p:nvPicPr>
        <p:blipFill>
          <a:blip r:embed="rId2"/>
          <a:stretch/>
        </p:blipFill>
        <p:spPr>
          <a:xfrm>
            <a:off x="457200" y="5943600"/>
            <a:ext cx="38116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y it was successfu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mp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ood communication with custom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olid platfor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agile development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ood use of proven off-the-shelf softwa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tr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person days (atom) : 11.2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person days (html) : 6.7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SLO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urce : 2247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st : 247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s it easier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0" name="Picture 5" descr="ThatWasEasy"/>
          <p:cNvPicPr/>
          <p:nvPr/>
        </p:nvPicPr>
        <p:blipFill>
          <a:blip r:embed="rId1"/>
          <a:stretch/>
        </p:blipFill>
        <p:spPr>
          <a:xfrm>
            <a:off x="1219320" y="1371600"/>
            <a:ext cx="69008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Next Step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tter keyword sear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tal number of resul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this experience in any new client work ECHO undertak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ing in 201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4" name="Picture 11" descr="echoReverb"/>
          <p:cNvPicPr/>
          <p:nvPr/>
        </p:nvPicPr>
        <p:blipFill>
          <a:blip r:embed="rId1"/>
          <a:stretch/>
        </p:blipFill>
        <p:spPr>
          <a:xfrm>
            <a:off x="2730600" y="3048120"/>
            <a:ext cx="3682800" cy="7617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4"/>
          <p:cNvSpPr/>
          <p:nvPr/>
        </p:nvSpPr>
        <p:spPr>
          <a:xfrm>
            <a:off x="502560" y="4800600"/>
            <a:ext cx="83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eview available in ECHO partner test – late August 201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3276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original requ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ris Lynnes to ECHO at AGU ‘09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‘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 would use ECHO if it were faster and simpler’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</a:t>
            </a: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impler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query interf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pen Searc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tom feed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SIP standard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45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ederation Of Earth Science Information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interface (1 of 3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mple HTTP GET requests with query paramet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set resour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http://api.echo.nasa.gov/echo-esip/search/dataset.atom?keywords=MODIS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ranule resour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http://api.echo.nasa.gov/echo-esip/search/granule.atom?shortName=MOD02QKM&amp;versionId=5&amp;dataCenter=LAADS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http://api.echo.nasa.gov/echo-esip/search/dataset.atom?keywords=MODIS&amp;numberOfResults=10&amp;cursor=20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nk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interface (2 of 3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set query paramet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eyword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umber of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urs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ranule query paramet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mpora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patia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umber of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urs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interface (3 of 3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tom feed resul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Input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Courier New"/>
                <a:hlinkClick r:id="rId1"/>
              </a:rPr>
              <a:t>http://api.echo.nasa.gov/echo-esip/search/dataset.atom?keywords=MODI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Output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feed xmlns="http://www.w3.org/2005/Atom" xmlns:os="http://a9.com/-/spec/opensearch/1.1/"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title type="text"&gt;ECHO dataset search results&lt;/title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os:itemsPerPage&gt;10&lt;/os:itemsPerPage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os:startIndex&gt;1&lt;/os:startIndex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entry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title type="text"&gt;MODIS/Terra Clear Sky Radiance 8-Day Composite Daily L3 Global 25km Equal Area V005&lt;/title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link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href="http://testbed.echo.nasa.gov:80/echo-esip/search/granuleOsdd.xml?dataCenter=LAADS&amp;amp;shortName=MODCSR_8&amp;amp;versionId=5"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hreflang="en-US"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type="application/opensearchdescription+xml"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rel="search"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title="Custom ECHO Granule Open Search Descriptor Document"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/link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/entry&gt;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/feed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implemen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ring MV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ring Web Servi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CHO Authentication and Catalog web servi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ote that only the public echo web services api was us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ent side keyword index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pache Abde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oing beyon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ing an html vie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ut to demo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eedbac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S-DISC is very happ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CHO-ESIP is perceived to be faster than current client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CHO-ESIP is now being used by Mirad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ubstantial interest in the user commun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parison to WI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prov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aging of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aster access to query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mpler access to online dat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mple keyword search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does not provi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User managem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rder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dvanced query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54:21Z</dcterms:created>
  <dc:creator>Michael Pilone</dc:creator>
  <dc:description/>
  <dc:language>en-US</dc:language>
  <cp:lastModifiedBy>Christopher Lynnes</cp:lastModifiedBy>
  <dcterms:modified xsi:type="dcterms:W3CDTF">2010-07-26T17:24:37Z</dcterms:modified>
  <cp:revision>71</cp:revision>
  <dc:subject/>
  <dc:title>ECHO Metadata Form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049B0F9DB0A94BA7BAB38E69575FCF</vt:lpwstr>
  </property>
</Properties>
</file>